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03C-6217-46EE-8399-FAD957F7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35B-151C-494E-BE6E-F15C5ACB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EEC-6EF9-4378-94E7-56E37B9E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8AF-BDFA-4288-9845-2404D4E5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E003-F070-4F61-85AB-A7C742D7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752B-5706-4DEB-A0CA-098557F8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BB6D-4841-42C8-81C5-5ECF01F8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785A-1B49-49CD-9046-8B7BEC44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7E22-7B4A-4885-8397-C908D0F0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2CEE-0F51-4693-A6E4-33C72AF6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BB7-58BD-4E31-A574-12492C8A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154-F20A-476B-AB74-8FC27744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F221-51B8-4D15-BF95-8317BC6F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A06-0225-4A50-B2DD-B4508976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3C9B-6E3A-44C5-9AC0-88891D19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67A3-2120-408B-9025-407E4B49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D9AD-F5A7-46A0-957C-BB310DD7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CDE27-45A8-47D7-9D73-F8B58759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FB34-0648-4785-8780-A99F5BD0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5965-C92D-4622-A1A8-23126EA3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9251-79C1-4C79-A825-1951E914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8EFC-7410-4B1C-A877-A0FA19C0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E43-C64C-4C76-8B6B-B15C584C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D064-F2CA-4B59-ACB6-F2A09CDF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EF4E4-FE95-4A9D-A49B-A541988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740C-42E2-4C1C-8186-A9AC3670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6844-164C-4EC7-9CDA-2AD15954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AAB0-1F78-49D6-BA63-6A501A87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70F0-E923-4E3F-BEF1-9B35D91A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4F49-FD6C-4AC9-9B4C-27A3164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2C5A-0071-4FA4-A639-4D87F1B3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92B7-0C14-4E9C-B732-A53FD38F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D9D8-9243-43B4-BA4D-B8FF224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666-EB49-4D0C-A0ED-C8C86FB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7B1C-B142-46AD-866E-E63B48AC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EF4A-EC10-45DE-80A7-3F497C04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4291-CA5E-49C9-A129-53605404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FEC07-299B-4721-BF88-0939F1EE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9D14A-EBCD-47DB-915D-807D095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4F65-B1F4-461D-80D4-63C2D3DC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B5DC-C22C-4015-A2B7-82E91E62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7B47-C0EB-4FC0-AF1F-0FE901DF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67BD-CE05-4306-9610-CD85B05F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B1D9-0207-40FB-BF53-B1281815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FFF-76BB-4B2F-B2AC-01DF7985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B25C0-CA93-41E0-8543-5BDE63D2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DEF7-136C-4C6E-AE9F-56B8269A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C7273-87E9-478D-ABB5-82587C89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CE000-16AC-441A-A8A4-12BFA358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70FF-C743-4DFB-BFFE-B8942655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7CD2-68F0-46DB-9A5A-8862E2DB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607A-1962-4968-9C78-29C29B8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AB21-A053-44DF-9F20-D87AEB31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1A1B-6302-4708-8980-13141A3D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132D-9150-413A-8260-0D2F45DF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87C-9845-476C-BCD3-0C7ACC61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C614-3476-4B19-9B2C-BBE1E5A0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7A82B-E08E-46AE-A0B1-169F0B54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D554-96EB-4553-869E-F353942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99541-C3E5-4313-B583-5F98D83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CC55D-6B32-4828-BC6D-2761C506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7985D-1045-4006-8930-9B330921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01076-D9A6-4388-9C53-1B41B703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81C2C-DB1E-4D2D-B9DD-74E415F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ECEC6-C965-4CA2-BC49-98C16ED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994D-D4CD-4B01-81D4-B50BB99E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359-1E21-4C22-88FB-100354E7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4FC93-04FE-4680-8CA8-A8126710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F818-AD6B-48D1-907A-F90BC048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9862F-C087-4E27-B833-0CA50EBD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CC3F8-CB94-4E2A-A7FD-DCF769EA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D723F-1BDE-443D-BA33-5E1FCF85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8E25-11CA-4247-9DD2-0C1E9449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0036-4974-42DE-A14C-E9247AF5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BFFB9-ADFA-41FA-B3B3-F8F6F365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888A0-9F7A-43CE-8716-42CB2BA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8DEED-6D0E-4BA7-BAAF-E6266225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0CB-A5F7-4271-94D1-5CFCBF5A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20CA5-E683-47CE-BD59-1402A712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FE1B7-CE4D-4F53-8737-9E1AA165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2305-3850-4AE5-9CE9-B15B3A2A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6F0D-94A5-4361-8B6B-8CA4F162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5679-D204-4128-BEEF-E25248F1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CA0-ABAF-425C-95E1-C47ED64D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58E7-46E5-4D50-ABD0-F8A3B11ED2A6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3653-6FD0-44CC-A6BF-0B3231EC0133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825B-83A1-4160-83D8-E3259E57C7D4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FE29-09D2-4751-B05B-A58F6AA9FB54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887C-291A-4DCB-B87C-6C00615C6C6A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B0E-8DD8-4C84-B73D-7FAF6E1A290C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B3F3-782C-40B1-95CC-557AE31A55D7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D07-4200-4AC7-91B9-9D9366AB8DD3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D00A-183A-4A1C-9285-D03FE379EABF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04DE-A76D-474C-9C0C-AC5A51E1CE1B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8DDD-ABC4-4BF2-9EA3-7E28720A8266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D07B-3C0F-4726-B37A-111197D50553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ACBF-09AF-424F-9C35-BDDFEFE917A9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2F40-768D-4D98-A38C-1EB5044113A4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3048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MUSTAFA KEMAL ATATÜR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Apple Casual"/>
                <a:ea typeface="Apple Casual"/>
              </a:rPr>
              <a:t>Ege Özgüroğlu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H</a:t>
            </a: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S L</a:t>
            </a: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F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9650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Atatürk was born in Thessaloniki on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pple Casu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 of May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188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and died in İstanbul, Dolmabahe Palace on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pple Casu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 of November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 193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9650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His mother was Zübeyde Hanım and his father was named Ali Riza Efendi. Only one of Atatürk's siblings, a sister named Makbule survived childhood; she died in 1956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4" descr="Selanik-Ataturk-Evi"/>
          <p:cNvPicPr/>
          <p:nvPr/>
        </p:nvPicPr>
        <p:blipFill>
          <a:blip r:embed="rId1"/>
          <a:stretch/>
        </p:blipFill>
        <p:spPr>
          <a:xfrm rot="259200">
            <a:off x="7121520" y="4178160"/>
            <a:ext cx="1793880" cy="21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Mustafa Kemal Atatürk was an Ottoman and Turkish army officer, revolutionary statesman, writer, and the first President of Turkey. He is the founder of the Republic of Turk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7" name="Picture 4" descr="kemal_ataturk_civ340"/>
          <p:cNvPicPr/>
          <p:nvPr/>
        </p:nvPicPr>
        <p:blipFill>
          <a:blip r:embed="rId1"/>
          <a:stretch/>
        </p:blipFill>
        <p:spPr>
          <a:xfrm>
            <a:off x="6156360" y="3892680"/>
            <a:ext cx="161604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F HE WAS’NT </a:t>
            </a: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would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n’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Latin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lphabet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men wouldn’t go to school and go outsid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wouldn’t be a republic of Turk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0" name="Picture 4" descr="200px-Ataturk-September_20,_1928"/>
          <p:cNvPicPr/>
          <p:nvPr/>
        </p:nvPicPr>
        <p:blipFill>
          <a:blip r:embed="rId1"/>
          <a:stretch/>
        </p:blipFill>
        <p:spPr>
          <a:xfrm>
            <a:off x="6324480" y="3081240"/>
            <a:ext cx="19051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WHAT HE L</a:t>
            </a: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KED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10168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atürk liked to swim, to read, to dance, listening music and riding hors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168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 knew French and Germa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168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 had a dog called Fox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5581800" y="3540240"/>
            <a:ext cx="2197080" cy="152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5" name="Picture 10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68944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181160" y="133308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Now he is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his grave at Ankara,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call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Anıtkabi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917720" y="2990880"/>
            <a:ext cx="4927680" cy="328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2:03:18Z</dcterms:created>
  <dc:creator>MUSTAFA OZGUROGLU</dc:creator>
  <dc:description/>
  <dc:language>en-US</dc:language>
  <cp:lastModifiedBy>sys</cp:lastModifiedBy>
  <dcterms:modified xsi:type="dcterms:W3CDTF">2012-01-19T14:30:07Z</dcterms:modified>
  <cp:revision>7</cp:revision>
  <dc:subject/>
  <dc:title>Mustafa Kemal ATatürk</dc:title>
</cp:coreProperties>
</file>